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0500-1DE0-4015-8D1E-3835796B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B1C-7574-44B4-A5CD-9A7F92A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6FA-B105-4E49-A2B7-781EA0F2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2AD-6B42-465F-A1EC-B78280B9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9A33-5FF8-4FB6-952A-72960A57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C5CF-46DE-4DD8-8BE1-E9AD7F30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0C6E-EF63-4CB9-ACD2-CEEE5AD4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A87D-64D1-4CE5-93DD-7EA5050A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171B-DBBA-4A8F-9430-6CE03324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F538-78BD-410A-97C8-87E848EF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54F4-136F-48B3-AC79-8ACE1CD8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DC8-6F17-4FA4-983E-4184A755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A9D0-9F58-4148-BEDA-580BB6E8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F78B-8128-4E4E-AC51-7D02859C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1898-83AC-4837-A624-6434C71F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17ED-D471-4C53-AC19-FA075561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F68D-53F4-4190-8E0D-3F566240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4E5-820E-4C68-B550-97748C67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614-BD85-40AC-B033-B9C087F9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1D8-977A-46AD-87EC-DE959451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EE8-FEF6-4CA8-B244-04BFF5B1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CB4-96A1-41CA-A70A-CE5FA842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E0A-8065-47AC-8399-422F9A21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C09-2BBB-481E-96A9-372E6C6D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C86F-22B3-4E08-93BA-316842A29F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837A-0318-41CC-BE2B-8BCC242182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Operációs Rendszere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aktív rendszere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ddigi rendszerek nem támogatták a programok fejlesztésé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programfejlesztés hatékonysága ugrásszerűen növekedett, amikor megjelentek az interaktív terminál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oprendszerre háruló feladat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laszidő: a felhasználó számára elfogadhatónak kellet lenni óra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dőosztás: nem csak akkor van adminisztratív feladat amikor a program írni v. olvasni akar, hanem a felhasználókkal is foglalkozni k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elhasználói felület: Parancsértelmező, felhasználóbar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elhasználói adminisztráció: jogosultságok, kommunikáci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zemélyi számítógépe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70-es években a hangsúly áttevődött a processzor fontosságáról a felhasználó fontosság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fikus felü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YSIWY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3640" y="3429000"/>
            <a:ext cx="2663640" cy="7207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XEROX – Alter 8800 19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4797360"/>
            <a:ext cx="2087640" cy="15843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BM-PC 1981 Program fejlesztési támoga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4797360"/>
            <a:ext cx="2087640" cy="15843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pple – Macintosh 1982 Grafikus felhasználói felü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4797360"/>
            <a:ext cx="2087640" cy="15843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ovell – NetWare 1984 Lokális hálóza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4" idx="2"/>
            <a:endCxn id="196" idx="0"/>
          </p:cNvCxnSpPr>
          <p:nvPr/>
        </p:nvCxnSpPr>
        <p:spPr>
          <a:xfrm>
            <a:off x="4535640" y="4149360"/>
            <a:ext cx="216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9" name=""/>
          <p:cNvCxnSpPr>
            <a:stCxn id="194" idx="2"/>
            <a:endCxn id="195" idx="0"/>
          </p:cNvCxnSpPr>
          <p:nvPr/>
        </p:nvCxnSpPr>
        <p:spPr>
          <a:xfrm rot="5400000">
            <a:off x="2951280" y="3213360"/>
            <a:ext cx="648360" cy="25203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0" name=""/>
          <p:cNvCxnSpPr>
            <a:stCxn id="194" idx="2"/>
            <a:endCxn id="197" idx="0"/>
          </p:cNvCxnSpPr>
          <p:nvPr/>
        </p:nvCxnSpPr>
        <p:spPr>
          <a:xfrm flipH="1" rot="16200000">
            <a:off x="5436360" y="3248640"/>
            <a:ext cx="648360" cy="24498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X operációs rendsz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1628640"/>
            <a:ext cx="6696000" cy="1152720"/>
          </a:xfrm>
          <a:prstGeom prst="rect">
            <a:avLst/>
          </a:prstGeom>
          <a:solidFill>
            <a:srgbClr val="33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3068640"/>
            <a:ext cx="6696000" cy="1152360"/>
          </a:xfrm>
          <a:prstGeom prst="rect">
            <a:avLst/>
          </a:prstGeom>
          <a:solidFill>
            <a:srgbClr val="33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4581360"/>
            <a:ext cx="6696000" cy="1152720"/>
          </a:xfrm>
          <a:prstGeom prst="rect">
            <a:avLst/>
          </a:prstGeom>
          <a:solidFill>
            <a:srgbClr val="33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1628640"/>
            <a:ext cx="1584360" cy="11527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3068640"/>
            <a:ext cx="1584360" cy="1152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4581360"/>
            <a:ext cx="1584360" cy="11527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3068640"/>
            <a:ext cx="1871640" cy="11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4581360"/>
            <a:ext cx="3816360" cy="11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2133720"/>
            <a:ext cx="1729080" cy="3682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ul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64000" y="3645000"/>
            <a:ext cx="1224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6720" y="5013360"/>
            <a:ext cx="1224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3500280"/>
            <a:ext cx="1224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1989000"/>
            <a:ext cx="1224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3716280"/>
            <a:ext cx="1728720" cy="217440"/>
          </a:xfrm>
          <a:prstGeom prst="rightArrow">
            <a:avLst>
              <a:gd name="adj1" fmla="val 50000"/>
              <a:gd name="adj2" fmla="val 19875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9299000">
            <a:off x="4788000" y="2852640"/>
            <a:ext cx="1728720" cy="217440"/>
          </a:xfrm>
          <a:prstGeom prst="rightArrow">
            <a:avLst>
              <a:gd name="adj1" fmla="val 50000"/>
              <a:gd name="adj2" fmla="val 19875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774200">
            <a:off x="4716360" y="4508280"/>
            <a:ext cx="1728720" cy="217440"/>
          </a:xfrm>
          <a:prstGeom prst="rightArrow">
            <a:avLst>
              <a:gd name="adj1" fmla="val 50000"/>
              <a:gd name="adj2" fmla="val 19875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2802200">
            <a:off x="2410560" y="2924280"/>
            <a:ext cx="1729080" cy="217440"/>
          </a:xfrm>
          <a:prstGeom prst="rightArrow">
            <a:avLst>
              <a:gd name="adj1" fmla="val 50000"/>
              <a:gd name="adj2" fmla="val 1988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2565360"/>
            <a:ext cx="0" cy="352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61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4005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5445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623736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61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6165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989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ainfr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500280"/>
            <a:ext cx="12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inicompu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01336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microcompu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öbbprocesszoros és Elosztott rendszerek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hetnek szimmetrikus és aszimmetrikus rendsz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ugalmassá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rőforrás megosz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ebességnöveked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bizhatósá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apfogalma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olyama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rőforr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prendszer meghatároz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prendszerek szerkezete, szolgáltatás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szerma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szerhív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szakításkezel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irtuális gép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lyamat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program egy algoritmust megvalósító utasítások soroz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olyamat (task, process) egy éppen végrehajtás alatt lévő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ultiprogramozott környezetben a folyamatok nem mindig futhatnak, hogy tovább tudjanak futni , ha ismét rájuk kerül a vezérlés néhány infót tárolni kell rólu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lyamatok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olyamatleíró blokk (process control block – PCB, task state segment – TSS) azonosítja egyértelműen a folyamatot és a következőket tartalmazz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olyamat azonosító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rogramszámláló állás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olyamat állapot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giszterek tartalm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olyamathoz tartozó mem. Terület adata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sznált perifériák , állományok jellemző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rőforrás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ami egy folyamat végrehajtásához szükséges (memória, processzor, perifériák, állományok stb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vehető – megszakítható (preemptív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rocess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elvehető – nem megszakítható (non preemp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lo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yomtató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ágnesszalagos egység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rőforrás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Megszakítható (preemtive</a:t>
            </a:r>
            <a:r>
              <a:rPr b="0" lang="hu-HU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olyamatoktól az erőforrás a folyamat vagy az erőforrás károsodása nélkül elvehe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Nem megszakítható (non-preem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használat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élbeszakítása esetén a folyamat vagy az erőforrás sérülh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2b2b2"/>
                </a:solidFill>
                <a:latin typeface="Arial"/>
              </a:rPr>
              <a:t>Oprendszer meghatároz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lyamatok egy olyan csoportja, amely a felhasználói folyamatok közt elosztja az erőforrásokat –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rőforrás szemlé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lyamatok egy olyan csoportja, amely megkíméli a felhasználókat a hardver kezelés nehézségeitől és kellemesebb alkalmazói környezetet biztosít –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elhasználói szemlé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2b2b2"/>
                </a:solidFill>
                <a:latin typeface="Arial"/>
              </a:rPr>
              <a:t>Oprendszerek fejlőd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ezdet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tegelt feldolgo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öbbfeladatos rendsz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ktív rendsz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emélyi Számítógép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zerkezet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2276640"/>
            <a:ext cx="7274160" cy="20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dszermag (KERN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1628640"/>
            <a:ext cx="7274160" cy="648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elhasználói program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4365720"/>
            <a:ext cx="727416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eriféri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2276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35733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2492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szerhív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19640" y="2637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álasz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76360" y="3933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zközkezelő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48360" y="4005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szakítás keze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zerkezet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16000" y="3284640"/>
            <a:ext cx="7273800" cy="20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dszermag (KERN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2637000"/>
            <a:ext cx="727380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elhasználói folyamatok kiszolgál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5373720"/>
            <a:ext cx="727380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szközvezérlő                                  Megszakítás vezérl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16360" y="3284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45813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05080" y="3500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szerhív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92720" y="3645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álasz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9440" y="494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zközkezelő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21440" y="5013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szakítás keze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6000" y="6021360"/>
            <a:ext cx="727380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eriféri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1341360"/>
            <a:ext cx="727380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elhasználói program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16000" y="1989000"/>
            <a:ext cx="7273800" cy="648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gramok készítési támoga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ndszermag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yamatok sokassága , melyek a rendszer bekapcsolásakor jönnek létre, és futásuk a rendszer leállításáig 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ndszerhívás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prendszer és a felhasz. Folyamatok közti kommunik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User mode vs. Kernel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zdetek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1940-es években megjelent első elektronikus számítógépeknek még nem volt operációs rendszerü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lső tárolt program elvén működő számítógép 1949-ben Angliában készült, kapcsolók segítségével bitenként lehetett programoz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chanikus programozási módszer nem csak a felhasználóknak volt kellemetlen, az igen drága gép sokat állt kihasználatlan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lső magas szintű nyelv a FORTRAN megjelenésével a kezelendő feladatok köre is bővül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elhasználó a számára biztosított gépidőben szemtől szembe került a komputerrel, azt csinált vele amit akart (OPEN SH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EN SHO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elhasználó az előre lefoglalt gépidő kezdetén megérkezik a lyukkártya csomag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gépeli a jelszavát a konzolírógépen, és ezzel törli a tár korábbi tartalm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tölti a saját FORTRAN fordító kártyacsomagját, majd a programj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 minden jól ment, akkor a kártyalyukasztón megjelentek a lefordított program kártyá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ár törlés, majd a lefordított program betöl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 rendben volt minden , akkor a konzolírógépen megjelent az eredmé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mainfrm"/>
          <p:cNvSpPr/>
          <p:nvPr/>
        </p:nvSpPr>
        <p:spPr>
          <a:xfrm>
            <a:off x="7740720" y="2205000"/>
            <a:ext cx="1204920" cy="21398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Documents"/>
          <p:cNvSpPr/>
          <p:nvPr/>
        </p:nvSpPr>
        <p:spPr>
          <a:xfrm>
            <a:off x="6012000" y="2133720"/>
            <a:ext cx="874440" cy="963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2060640"/>
            <a:ext cx="504720" cy="50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25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787640" y="3645000"/>
            <a:ext cx="36036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3645000"/>
            <a:ext cx="36036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285264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076720" y="2852640"/>
            <a:ext cx="432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956720" y="3141720"/>
            <a:ext cx="733320" cy="658800"/>
            <a:chOff x="7956720" y="3141720"/>
            <a:chExt cx="733320" cy="658800"/>
          </a:xfrm>
        </p:grpSpPr>
        <p:sp>
          <p:nvSpPr>
            <p:cNvPr id="115" name="Gear"/>
            <p:cNvSpPr/>
            <p:nvPr/>
          </p:nvSpPr>
          <p:spPr>
            <a:xfrm>
              <a:off x="8363160" y="3141720"/>
              <a:ext cx="326880" cy="30204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56720" y="3265920"/>
              <a:ext cx="390600" cy="36108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10160" y="3399480"/>
              <a:ext cx="434160" cy="40104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Form"/>
          <p:cNvSpPr/>
          <p:nvPr/>
        </p:nvSpPr>
        <p:spPr>
          <a:xfrm>
            <a:off x="6227640" y="4869000"/>
            <a:ext cx="1121040" cy="13078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724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lhasznál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77080" y="220500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308720" y="4436640"/>
            <a:ext cx="1440000" cy="1297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ötegelt feldolgozá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atékonyság növelése érdekében a kezelők profizmusát növelni kellett, a műveletek közti átfedéseket pedig csökkente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oldás : szakképzett OPERÁ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ndszerezi a beérkezett munkák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használók előtt így bezárult a gépterem ajtaja. (CLSED SHOP,Operator Driven SH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ártyakötegek utasításait egymás után hajtotta végre a sz.gé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ötegelt feldolgozá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operátor mechanikus munkáját kiküszöbölendő a Generál Motors létrehozta az első op . Rendszert, ún.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nítor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ower"/>
          <p:cNvSpPr/>
          <p:nvPr/>
        </p:nvSpPr>
        <p:spPr>
          <a:xfrm>
            <a:off x="2319480" y="2637000"/>
            <a:ext cx="904680" cy="3456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erver"/>
          <p:cNvSpPr/>
          <p:nvPr/>
        </p:nvSpPr>
        <p:spPr>
          <a:xfrm>
            <a:off x="7093080" y="2637000"/>
            <a:ext cx="1809720" cy="3627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6900840" y="398268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500880" y="4309920"/>
            <a:ext cx="17287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Documents"/>
          <p:cNvSpPr/>
          <p:nvPr/>
        </p:nvSpPr>
        <p:spPr>
          <a:xfrm rot="5400000">
            <a:off x="1204560" y="2979720"/>
            <a:ext cx="608040" cy="9320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orm"/>
          <p:cNvSpPr/>
          <p:nvPr/>
        </p:nvSpPr>
        <p:spPr>
          <a:xfrm>
            <a:off x="1042920" y="5373720"/>
            <a:ext cx="728640" cy="9237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computr1"/>
          <p:cNvSpPr/>
          <p:nvPr/>
        </p:nvSpPr>
        <p:spPr>
          <a:xfrm>
            <a:off x="971640" y="4221000"/>
            <a:ext cx="1063440" cy="617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1408680" y="46486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éd számítógé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350028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450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57340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879480" cy="901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718080" y="4052880"/>
            <a:ext cx="1081080" cy="57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149720"/>
            <a:ext cx="227160" cy="190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149720"/>
            <a:ext cx="227160" cy="190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076640"/>
            <a:ext cx="1081080" cy="57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1920" y="4173480"/>
            <a:ext cx="227160" cy="190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6640" y="4173480"/>
            <a:ext cx="227160" cy="190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365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4365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4221000"/>
            <a:ext cx="720720" cy="287640"/>
          </a:xfrm>
          <a:prstGeom prst="leftRightArrow">
            <a:avLst>
              <a:gd name="adj1" fmla="val 50000"/>
              <a:gd name="adj2" fmla="val 4988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16360" y="4944960"/>
            <a:ext cx="87948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ötegelt feldolgozá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PU és a perifériák közti sebesség különbség áthidalására , egy átmeneti tárolót hozta létre, (megszakítás kéré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ilyen rendszerek a SPOOL rendsz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öbbfeladatos rendszere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tlapolt rendsz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3355920"/>
            <a:ext cx="5032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3355920"/>
            <a:ext cx="10080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3355920"/>
            <a:ext cx="792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2995560"/>
            <a:ext cx="5032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2995560"/>
            <a:ext cx="10080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2995560"/>
            <a:ext cx="792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2637000"/>
            <a:ext cx="5032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637000"/>
            <a:ext cx="10080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2637000"/>
            <a:ext cx="792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276640"/>
            <a:ext cx="5029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2276640"/>
            <a:ext cx="1008360" cy="36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276640"/>
            <a:ext cx="792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436572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öbbféle periféria, vmint a több feladat egyidejű kezelése változásokat indukált az oprendszer felődésé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ezelői felület mellett megjelentek állandó részek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HELL+KERNEL = OP. REND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1125360"/>
            <a:ext cx="1297080" cy="179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zköz kezel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200" y="2924280"/>
            <a:ext cx="1297080" cy="1798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gszakítás kezel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1125360"/>
            <a:ext cx="2447640" cy="359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zor kezelés, Memória kezelés, Állománykezelés, Erőforrás keze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1125360"/>
            <a:ext cx="1297080" cy="359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dszerhívások , válasz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125360"/>
            <a:ext cx="1943280" cy="935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B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00720" y="2060640"/>
            <a:ext cx="1943280" cy="934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B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924280"/>
            <a:ext cx="1943280" cy="934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B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3789360"/>
            <a:ext cx="1943280" cy="934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B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5373720"/>
            <a:ext cx="100800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5373720"/>
            <a:ext cx="100800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4724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4724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2421000"/>
            <a:ext cx="576000" cy="1079280"/>
          </a:xfrm>
          <a:prstGeom prst="ca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197000"/>
            <a:ext cx="649080" cy="57636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1484280"/>
            <a:ext cx="505080" cy="360360"/>
          </a:xfrm>
          <a:prstGeom prst="rightArrow">
            <a:avLst>
              <a:gd name="adj1" fmla="val 50000"/>
              <a:gd name="adj2" fmla="val 3504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2276640"/>
            <a:ext cx="432000" cy="360360"/>
          </a:xfrm>
          <a:prstGeom prst="leftArrow">
            <a:avLst>
              <a:gd name="adj1" fmla="val 50000"/>
              <a:gd name="adj2" fmla="val 2997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371628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3860640"/>
            <a:ext cx="504720" cy="432000"/>
          </a:xfrm>
          <a:prstGeom prst="rightArrow">
            <a:avLst>
              <a:gd name="adj1" fmla="val 50000"/>
              <a:gd name="adj2" fmla="val 2920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170028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404640"/>
            <a:ext cx="511344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00720" y="404640"/>
            <a:ext cx="187164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459640" y="1341360"/>
            <a:ext cx="459000" cy="469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459640" y="2276640"/>
            <a:ext cx="459000" cy="469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459640" y="3141720"/>
            <a:ext cx="459000" cy="469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8388360" y="4076640"/>
            <a:ext cx="4586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20:31:48Z</dcterms:created>
  <dc:creator>Nagymáté Péter</dc:creator>
  <dc:description/>
  <dc:language>en-US</dc:language>
  <cp:lastModifiedBy>Nagymáté Péter</cp:lastModifiedBy>
  <dcterms:modified xsi:type="dcterms:W3CDTF">2003-11-20T14:46:20Z</dcterms:modified>
  <cp:revision>15</cp:revision>
  <dc:subject/>
  <dc:title>Operációs Rendszerek</dc:title>
</cp:coreProperties>
</file>